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15.pct" ContentType="image/x-pict"/>
  <Override PartName="/ppt/media/image14.jpeg" ContentType="image/jpeg"/>
  <Override PartName="/ppt/media/image1.jpeg" ContentType="image/jpeg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165-65BD-4575-918A-A6DED2DD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18F-1FA0-49C4-8090-08CE0950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12B-13F9-4521-9C25-77CF0E28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922-BB88-4503-A68A-C38DCB55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8866-A712-4E88-A3F1-9D54C3B9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FEE1-BE96-42D5-BCF4-34B3C44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A2C5-9A53-4D84-8809-409EA46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D18E-80D5-43C2-A868-4A71152C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34CA-DBF3-460B-BC4A-891E1068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E138-CAC5-43E9-9367-3072A395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9678-C428-4213-851E-29749B4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25D-6DF8-4AA3-9A57-54C71696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F424-194F-4CBC-B431-C4DBAF2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D2D-A33A-4AEC-B696-14DB04B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3E3A-05E2-4974-BEE3-421C6E28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CB08-54D0-4313-9253-1B709848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18E1-E750-48DE-901F-8CD77D99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B8C-1469-4A39-84CB-797AEB5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692-4659-4CB0-9510-1633572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A27-67D2-4BE5-A68E-9F1D7228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F6A-3758-4280-8CCD-60CBC7FA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92D-C0C8-4BF7-8311-DFE8077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9E2-981A-45C9-B103-3E1C453B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300-E560-4FCA-A1A9-EBA2E6E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FC6B-42E6-4CEC-878F-BFD8A16E8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B735-313E-47B9-8815-67833E0F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istoryplace.com/unitedstates/childlabor/norris.jpg" TargetMode="External"/><Relationship Id="rId2" Type="http://schemas.openxmlformats.org/officeDocument/2006/relationships/hyperlink" Target="http://xroads.virginia.edu/~MA01/Davis/photography/reform/progressive_era.html" TargetMode="External"/><Relationship Id="rId3" Type="http://schemas.openxmlformats.org/officeDocument/2006/relationships/hyperlink" Target="http://www.archives.gov/education/lessons/hine-photos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hild Labor/Lewis Hine</a:t>
            </a:r>
            <a:br>
              <a:rPr sz="4400"/>
            </a:b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 and Zac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Lewis Hine and his Photograph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30320" y="1676520"/>
            <a:ext cx="3265560" cy="230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54000" y="4191120"/>
            <a:ext cx="3276720" cy="229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59320" y="4143240"/>
            <a:ext cx="3389400" cy="2378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459320" y="1676520"/>
            <a:ext cx="32004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fter The Photograph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05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ibliograph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storyplace.com/unitedstates/childlabor/norris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xroads.virginia.edu/~MA01/Davis/photography/reform/progressive_era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rchives.gov/education/lessons/hine-photo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560" y="632448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hotos taken by Lewis 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ackground Inform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70 more than 1 million children (between the ages of 10 to 15) were working in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910 there were more than 2 million children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 there were more than 800,000 children working under the age of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24280" y="482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8120" y="4419720"/>
          <a:ext cx="3125520" cy="21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419720"/>
                    <a:ext cx="31255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Factory/Glass Work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1520" y="1752480"/>
            <a:ext cx="62308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nditions/Physical Ailment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Mill Work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nditions/Physical Ailment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95480" y="1600200"/>
          <a:ext cx="34308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430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eafood Work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7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nditions/Physical Ailment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01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Lewis Hine</a:t>
            </a:r>
            <a:br>
              <a:rPr sz="4400"/>
            </a:br>
            <a:r>
              <a:rPr b="0" lang="en-US" sz="2000" spc="-1" strike="noStrike">
                <a:solidFill>
                  <a:srgbClr val="23005f"/>
                </a:solidFill>
                <a:latin typeface="Futura"/>
              </a:rPr>
              <a:t>Early Life</a:t>
            </a:r>
            <a:endParaRPr b="0" lang="en-US" sz="20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20:01Z</dcterms:created>
  <dc:creator>Yarmouth Schools</dc:creator>
  <dc:description/>
  <dc:language>en-US</dc:language>
  <cp:lastModifiedBy>YHS Teacher</cp:lastModifiedBy>
  <dcterms:modified xsi:type="dcterms:W3CDTF">2009-04-02T14:29:05Z</dcterms:modified>
  <cp:revision>9</cp:revision>
  <dc:subject/>
  <dc:title>Child Labor/Lewis Hine</dc:title>
</cp:coreProperties>
</file>